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4D5-6736-4751-910B-79623AAB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9DF-2012-46AB-BFAB-758931D9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EED-BC36-4FF4-B7C4-08730E48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FF5-EC3A-48C7-B9D2-9DB29B26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2A00-C041-458D-BBE2-DB8010FB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7A76-2A51-4A68-A793-47D4F65F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F2AE-CE21-4B2D-B3A1-490213CB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3A14-9CE4-49BE-9424-E5D1A3BD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27E6-90F0-4ABB-94B8-47B94B3C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B213-6C8D-4EF5-8F88-5DAC8156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E733-5EFA-4BA0-8083-F5BA2C35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2BA-35F7-4183-A617-52CA1D18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5BD2-5683-46AC-AFAB-26EA2976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E67B-3CA3-4782-A567-9A937DAC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AEA7-1284-43F5-9C41-DE9E41D6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9A74-2F6D-4F4E-994B-B26DFAE0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06A7-8D4C-4A06-A33E-AC8438E5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898-3D94-4A19-AC11-08D38C55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9FC-8C20-4472-9EEB-E5AAA37D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986-D93D-4DED-9053-44A6A2CF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0A6-B97D-402D-A0DF-A26D563C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AE8-C682-4EDE-BE4E-2AD358EA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C8C-FAF2-4CF0-B461-D7E5F4B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C83-52EA-4D0D-A0A6-175A9A3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EACB-ED07-4E8B-A944-B7BE5255C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3752-8E06-4C94-8C32-F04210190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хабилитација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уматских обољењ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BUS BECHTER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droma Marie-Strumpell-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бољи назив, који је данас прихваћен, је Morbus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иви као "анкилозирајући спондилитис" и слични, иако су прихваћени имају и својих мањкавости, јер у себи садрже тумачење да је анкилоза кичменог стуба неизбежна последица. Такодје, овај назив искључује обољење периферних зглобова, а сам по себи јатрогенизује болес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апеутске вежбе се спроводе у циљу спречавања развоја контрактура (коксофеморални зглобови), јачања паравертебралне мускулатуре и очување респираторног капацитета. После овакве активности, потребан је довољно дуг одмор. Одмор треба да износи најмање 10-12 сати у току 24 сата. Но, најбоље је одмор одредјивати индивидуално (равнотежа измедју одмора и физичке активности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ј треба да је тв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, а пацијент мора лежати на ледјима. Уколико не може због болова да заузме ледјни положај, онда је дозвољен и положај лежања на трбуху. Забрањено је лежање на страни, односно лежање на б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ржавање правилног држања и покретљивo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мeнo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б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фази ремисије се може слободније радити у циљу истих захтева који су горе наведен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ачање паравертебралне мускулатур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дисајне функци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ечавање контрактура у коксофеморал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глобови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мор у току дан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ме бити краћи од 8 - 10 с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ед кинезитерапије, примењујемо КТД, хидротерапију, подводне масаже, ултразвук, интерферентне струје, ласер терапију и магнетотерапију. Ултразвук се користи у дозама већим од 1 W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и то дуж кичменог стуба и у пределу с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илиачних зглоб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ебно би истакли да је кинезитерапија стожер физикалне терапи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век усправно стајати, ходати или седе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д седења седиште треба да је тврд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ње је увек без јастука, а лежај треба да је твр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бегавати свако савијање напред и подизање терета у савијеном положај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 мора бити искључиво континуиран процес (вежбати сваки дан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 ортопедских мера најчешће се користи употреба растеретних мидера и појасева у циљу корекције кифозе. Понекад се примењују и ортопедске мере у лечењу анкилозантног спондилитиса. Од тих мера најчешћа је употреба појасева - мидера и то растеретних и корективних у циљу корекције кифо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 код дегенеративног реуматиз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65502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ологија евалуациј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видуални присту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ализација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ункционална ана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утност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кут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зиционир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иотерап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тичке вежб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тске физикалне процед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ЕН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Д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асер (аналгетска фреквенциј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Хронич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м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д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лект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инези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е вежбе у циљу прогресивног јачања мускулату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већање обима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екција постуралних поремећа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мишићних атрофиј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контрактура зглобо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остеопорозе и деструкције костију због инактивите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мператив физикалне терапије је активни покрет. Но, у акутној фази намеће се супротност у виду мировања и позиционирања захваћених зглобова. Медјутим, и овде се може применити активни покрет кроз вид статичких контракција. По смиривању акутног процеса прелази се на динамичке контракције као једини вид природног активног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за ремис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елоидна паковањ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термотерапија (топла и хладна диферентна зон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лас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мпулсно магнетно пољ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електротерапија (стабилна галванизација, КТД, интерферентне струје, електростимулације и др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имена радне терапије је битан елемент функционалне терапије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купационе терап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ункционални капаците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4289400"/>
        </p:xfrm>
        <a:graphic>
          <a:graphicData uri="http://schemas.openxmlformats.org/drawingml/2006/table">
            <a:tbl>
              <a:tblPr/>
              <a:tblGrid>
                <a:gridCol w="1325520"/>
                <a:gridCol w="6446880"/>
              </a:tblGrid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онално стањ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, уз потпуно одржану радну способн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ржана функционална способност за нормалну свакодневну активност (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), упркос ограниченој покрњетљивости једног или више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 који значајно смањује радну способност. Није потребна туђа нега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а функционална неспособност, неопходна стална туђа нега и помо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стадију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ровање у растеретном положају уз одржавање функционалног положаја зглоб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ио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инезиетрапија (статичке контракције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ш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 болесника (упознавање са процесом болести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 болес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анатомских оштећења, контрактура и деформитет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зиранa кинези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ежбе са помагaлим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опле купк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лтразвук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асеро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купuнктура (иако још увек није јасaн nачин деловањa, код појединiх случајева долази до побoљшањa)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арaфинска и пелоидна паковањa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едукација болесник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након хируршких интервенција, синовектомије, алоартропластике, артродезе и др.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, комбинованa са хидротерапиј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мотерапија илi криотерапија (зави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д степeна акутности обoљењ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асер терап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V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тешких деформациј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идрокинези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средстава за самозбрињавањ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0:41:46Z</dcterms:created>
  <dc:creator>WIN98SE</dc:creator>
  <dc:description/>
  <dc:language>en-US</dc:language>
  <cp:lastModifiedBy>Kaca</cp:lastModifiedBy>
  <dcterms:modified xsi:type="dcterms:W3CDTF">2022-08-20T13:34:47Z</dcterms:modified>
  <cp:revision>10</cp:revision>
  <dc:subject/>
  <dc:title>Rehabilitacija reumatskih oboljenja</dc:title>
</cp:coreProperties>
</file>