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CBD-2971-4285-9EE6-C0A51297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913-ECE2-44A3-8AC5-891E19C7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E83-9634-4226-89CB-D60860F3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E33-C56D-4427-935C-AED5DE9B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D2B6-CD2E-4E4F-8DC3-919BD20C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5FC1-BE42-461E-9E58-8E13E691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8020-3357-4056-8D55-05A8DEE3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E99A-D9B0-4C83-9D26-99B3CB67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3FBE-4E0A-4759-8A70-38D48402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1B4B-AD0B-4CAE-999C-95B3E6FF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4F2B-B47E-41F5-A281-FF554AFE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579-CABB-433F-A3C6-596B965B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1558-8F48-4C4D-95DF-777FE08D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326C-3116-4511-B401-D2637EA3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723A-F942-47F8-B508-8ABCC1AB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FC8F-2224-418D-A8CF-F1B8F4E7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C3F9-9C7F-408C-A1B0-1DAA27A6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863-F7D6-41F3-9807-7F5B8DC0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F63-E180-4ECA-9544-496399A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378-7A7B-4D5F-8DD3-634B0C6F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323-7BAD-4323-A27F-1781FD6E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A4D-EF52-4558-B8C9-72ACDD40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FA4-8D01-4C26-B1D7-216E031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1A4-003A-46B5-B9BB-F6D60700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3135-90D1-4778-AAEE-8EC3D9EA8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20CE-F436-4368-989B-C4B991E5D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611280" y="501336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Катарина Парезанови</a:t>
            </a:r>
            <a:r>
              <a:rPr b="0" lang="sr-Latn-CS" sz="2400" spc="-1" strike="noStrike">
                <a:solidFill>
                  <a:srgbClr val="080808"/>
                </a:solidFill>
                <a:latin typeface="Arial"/>
              </a:rPr>
              <a:t>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ехабилитација трауматоло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ких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болесн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ШТАНИ ПРЕЛОМИ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35280" y="1904760"/>
            <a:ext cx="619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ганиз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е калус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струкција к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са.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Успорено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стварање калус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ш пoл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 ф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гмена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елика 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локациј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по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на ил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неа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на им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иза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т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ерк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љењ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ефин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 неср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ј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псеудоар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а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ства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л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г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г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б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реме зарастања прелома костију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25" name="Group 161"/>
          <p:cNvGrpSpPr/>
          <p:nvPr/>
        </p:nvGrpSpPr>
        <p:grpSpPr>
          <a:xfrm>
            <a:off x="1042920" y="1989000"/>
            <a:ext cx="7561440" cy="3384720"/>
            <a:chOff x="1042920" y="1989000"/>
            <a:chExt cx="7561440" cy="3384720"/>
          </a:xfrm>
        </p:grpSpPr>
        <p:sp>
          <p:nvSpPr>
            <p:cNvPr id="126" name="AutoShape 162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163"/>
            <p:cNvGrpSpPr/>
            <p:nvPr/>
          </p:nvGrpSpPr>
          <p:grpSpPr>
            <a:xfrm>
              <a:off x="1042920" y="1989000"/>
              <a:ext cx="7548480" cy="3366720"/>
              <a:chOff x="1042920" y="1989000"/>
              <a:chExt cx="7548480" cy="3366720"/>
            </a:xfrm>
          </p:grpSpPr>
          <p:grpSp>
            <p:nvGrpSpPr>
              <p:cNvPr id="128" name="Group 164"/>
              <p:cNvGrpSpPr/>
              <p:nvPr/>
            </p:nvGrpSpPr>
            <p:grpSpPr>
              <a:xfrm>
                <a:off x="1042920" y="1989000"/>
                <a:ext cx="1377360" cy="1812600"/>
                <a:chOff x="1042920" y="1989000"/>
                <a:chExt cx="1377360" cy="1812600"/>
              </a:xfrm>
            </p:grpSpPr>
            <p:sp>
              <p:nvSpPr>
                <p:cNvPr id="129" name="Rectangle 165"/>
                <p:cNvSpPr/>
                <p:nvPr/>
              </p:nvSpPr>
              <p:spPr>
                <a:xfrm>
                  <a:off x="1129680" y="1989000"/>
                  <a:ext cx="120420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ст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и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166"/>
                <p:cNvSpPr/>
                <p:nvPr/>
              </p:nvSpPr>
              <p:spPr>
                <a:xfrm>
                  <a:off x="1042920" y="1989000"/>
                  <a:ext cx="137736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167"/>
              <p:cNvGrpSpPr/>
              <p:nvPr/>
            </p:nvGrpSpPr>
            <p:grpSpPr>
              <a:xfrm>
                <a:off x="2420640" y="1989000"/>
                <a:ext cx="1367280" cy="1812600"/>
                <a:chOff x="2420640" y="1989000"/>
                <a:chExt cx="1367280" cy="1812600"/>
              </a:xfrm>
            </p:grpSpPr>
            <p:sp>
              <p:nvSpPr>
                <p:cNvPr id="132" name="Rectangle 168"/>
                <p:cNvSpPr/>
                <p:nvPr/>
              </p:nvSpPr>
              <p:spPr>
                <a:xfrm>
                  <a:off x="2507400" y="1989000"/>
                  <a:ext cx="119412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бутна кост, вертебра,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арл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69"/>
                <p:cNvSpPr/>
                <p:nvPr/>
              </p:nvSpPr>
              <p:spPr>
                <a:xfrm>
                  <a:off x="2420640" y="1989000"/>
                  <a:ext cx="136728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170"/>
              <p:cNvGrpSpPr/>
              <p:nvPr/>
            </p:nvGrpSpPr>
            <p:grpSpPr>
              <a:xfrm>
                <a:off x="3788640" y="1989000"/>
                <a:ext cx="1200600" cy="1812600"/>
                <a:chOff x="3788640" y="1989000"/>
                <a:chExt cx="1200600" cy="1812600"/>
              </a:xfrm>
            </p:grpSpPr>
            <p:sp>
              <p:nvSpPr>
                <p:cNvPr id="135" name="Rectangle 171"/>
                <p:cNvSpPr/>
                <p:nvPr/>
              </p:nvSpPr>
              <p:spPr>
                <a:xfrm>
                  <a:off x="38754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колен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(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тиби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72"/>
                <p:cNvSpPr/>
                <p:nvPr/>
              </p:nvSpPr>
              <p:spPr>
                <a:xfrm>
                  <a:off x="3788640" y="1989000"/>
                  <a:ext cx="120060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173"/>
              <p:cNvGrpSpPr/>
              <p:nvPr/>
            </p:nvGrpSpPr>
            <p:grpSpPr>
              <a:xfrm>
                <a:off x="4989600" y="1989000"/>
                <a:ext cx="1200240" cy="1812600"/>
                <a:chOff x="4989600" y="1989000"/>
                <a:chExt cx="1200240" cy="1812600"/>
              </a:xfrm>
            </p:grpSpPr>
            <p:sp>
              <p:nvSpPr>
                <p:cNvPr id="138" name="Rectangle 174"/>
                <p:cNvSpPr/>
                <p:nvPr/>
              </p:nvSpPr>
              <p:spPr>
                <a:xfrm>
                  <a:off x="507564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акт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75"/>
                <p:cNvSpPr/>
                <p:nvPr/>
              </p:nvSpPr>
              <p:spPr>
                <a:xfrm>
                  <a:off x="498960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176"/>
              <p:cNvGrpSpPr/>
              <p:nvPr/>
            </p:nvGrpSpPr>
            <p:grpSpPr>
              <a:xfrm>
                <a:off x="6190560" y="1989000"/>
                <a:ext cx="1200240" cy="1812600"/>
                <a:chOff x="6190560" y="1989000"/>
                <a:chExt cx="1200240" cy="1812600"/>
              </a:xfrm>
            </p:grpSpPr>
            <p:sp>
              <p:nvSpPr>
                <p:cNvPr id="141" name="Rectangle 177"/>
                <p:cNvSpPr/>
                <p:nvPr/>
              </p:nvSpPr>
              <p:spPr>
                <a:xfrm>
                  <a:off x="62766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љуц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ибул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ребр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тарсус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78"/>
                <p:cNvSpPr/>
                <p:nvPr/>
              </p:nvSpPr>
              <p:spPr>
                <a:xfrm>
                  <a:off x="61905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179"/>
              <p:cNvGrpSpPr/>
              <p:nvPr/>
            </p:nvGrpSpPr>
            <p:grpSpPr>
              <a:xfrm>
                <a:off x="7391160" y="1989000"/>
                <a:ext cx="1200240" cy="1812600"/>
                <a:chOff x="7391160" y="1989000"/>
                <a:chExt cx="1200240" cy="1812600"/>
              </a:xfrm>
            </p:grpSpPr>
            <p:sp>
              <p:nvSpPr>
                <p:cNvPr id="144" name="Rectangle 180"/>
                <p:cNvSpPr/>
                <p:nvPr/>
              </p:nvSpPr>
              <p:spPr>
                <a:xfrm>
                  <a:off x="747792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карпус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аланг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181"/>
                <p:cNvSpPr/>
                <p:nvPr/>
              </p:nvSpPr>
              <p:spPr>
                <a:xfrm>
                  <a:off x="73911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182"/>
              <p:cNvGrpSpPr/>
              <p:nvPr/>
            </p:nvGrpSpPr>
            <p:grpSpPr>
              <a:xfrm>
                <a:off x="1042920" y="3801960"/>
                <a:ext cx="1377360" cy="1553760"/>
                <a:chOff x="1042920" y="3801960"/>
                <a:chExt cx="1377360" cy="1553760"/>
              </a:xfrm>
            </p:grpSpPr>
            <p:sp>
              <p:nvSpPr>
                <p:cNvPr id="147" name="Rectangle 183"/>
                <p:cNvSpPr/>
                <p:nvPr/>
              </p:nvSpPr>
              <p:spPr>
                <a:xfrm>
                  <a:off x="1129680" y="3801960"/>
                  <a:ext cx="120420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еме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зарастањ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у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им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184"/>
                <p:cNvSpPr/>
                <p:nvPr/>
              </p:nvSpPr>
              <p:spPr>
                <a:xfrm>
                  <a:off x="1042920" y="3801960"/>
                  <a:ext cx="137736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185"/>
              <p:cNvGrpSpPr/>
              <p:nvPr/>
            </p:nvGrpSpPr>
            <p:grpSpPr>
              <a:xfrm>
                <a:off x="2420640" y="3801960"/>
                <a:ext cx="1367280" cy="1553760"/>
                <a:chOff x="2420640" y="3801960"/>
                <a:chExt cx="1367280" cy="1553760"/>
              </a:xfrm>
            </p:grpSpPr>
            <p:sp>
              <p:nvSpPr>
                <p:cNvPr id="150" name="Rectangle 186"/>
                <p:cNvSpPr/>
                <p:nvPr/>
              </p:nvSpPr>
              <p:spPr>
                <a:xfrm>
                  <a:off x="2507400" y="3801960"/>
                  <a:ext cx="119412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87"/>
                <p:cNvSpPr/>
                <p:nvPr/>
              </p:nvSpPr>
              <p:spPr>
                <a:xfrm>
                  <a:off x="2420640" y="3801960"/>
                  <a:ext cx="136728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188"/>
              <p:cNvGrpSpPr/>
              <p:nvPr/>
            </p:nvGrpSpPr>
            <p:grpSpPr>
              <a:xfrm>
                <a:off x="3788640" y="3801960"/>
                <a:ext cx="1200600" cy="1553760"/>
                <a:chOff x="3788640" y="3801960"/>
                <a:chExt cx="1200600" cy="1553760"/>
              </a:xfrm>
            </p:grpSpPr>
            <p:sp>
              <p:nvSpPr>
                <p:cNvPr id="153" name="Rectangle 189"/>
                <p:cNvSpPr/>
                <p:nvPr/>
              </p:nvSpPr>
              <p:spPr>
                <a:xfrm>
                  <a:off x="38754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190"/>
                <p:cNvSpPr/>
                <p:nvPr/>
              </p:nvSpPr>
              <p:spPr>
                <a:xfrm>
                  <a:off x="3788640" y="3801960"/>
                  <a:ext cx="120060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91"/>
              <p:cNvGrpSpPr/>
              <p:nvPr/>
            </p:nvGrpSpPr>
            <p:grpSpPr>
              <a:xfrm>
                <a:off x="4989600" y="3801960"/>
                <a:ext cx="1200240" cy="1553760"/>
                <a:chOff x="4989600" y="3801960"/>
                <a:chExt cx="1200240" cy="1553760"/>
              </a:xfrm>
            </p:grpSpPr>
            <p:sp>
              <p:nvSpPr>
                <p:cNvPr id="156" name="Rectangle 192"/>
                <p:cNvSpPr/>
                <p:nvPr/>
              </p:nvSpPr>
              <p:spPr>
                <a:xfrm>
                  <a:off x="507564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193"/>
                <p:cNvSpPr/>
                <p:nvPr/>
              </p:nvSpPr>
              <p:spPr>
                <a:xfrm>
                  <a:off x="498960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194"/>
              <p:cNvGrpSpPr/>
              <p:nvPr/>
            </p:nvGrpSpPr>
            <p:grpSpPr>
              <a:xfrm>
                <a:off x="6190560" y="3801960"/>
                <a:ext cx="1200240" cy="1553760"/>
                <a:chOff x="6190560" y="3801960"/>
                <a:chExt cx="1200240" cy="1553760"/>
              </a:xfrm>
            </p:grpSpPr>
            <p:sp>
              <p:nvSpPr>
                <p:cNvPr id="159" name="Rectangle 195"/>
                <p:cNvSpPr/>
                <p:nvPr/>
              </p:nvSpPr>
              <p:spPr>
                <a:xfrm>
                  <a:off x="62766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а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196"/>
                <p:cNvSpPr/>
                <p:nvPr/>
              </p:nvSpPr>
              <p:spPr>
                <a:xfrm>
                  <a:off x="61905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97"/>
              <p:cNvGrpSpPr/>
              <p:nvPr/>
            </p:nvGrpSpPr>
            <p:grpSpPr>
              <a:xfrm>
                <a:off x="7391160" y="3801960"/>
                <a:ext cx="1200240" cy="1553760"/>
                <a:chOff x="7391160" y="3801960"/>
                <a:chExt cx="1200240" cy="1553760"/>
              </a:xfrm>
            </p:grpSpPr>
            <p:sp>
              <p:nvSpPr>
                <p:cNvPr id="162" name="Rectangle 198"/>
                <p:cNvSpPr/>
                <p:nvPr/>
              </p:nvSpPr>
              <p:spPr>
                <a:xfrm>
                  <a:off x="747792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- 4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199"/>
                <p:cNvSpPr/>
                <p:nvPr/>
              </p:nvSpPr>
              <p:spPr>
                <a:xfrm>
                  <a:off x="73911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Rectangle 200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а 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У фази имобилиз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34920" y="1904760"/>
            <a:ext cx="521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 контракције са тонусом који мора бити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од 30% од тонуса у мир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стималције - сп обл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ферентне стру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(високо фреквентно магнетно импулсно поље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а терапија након имобилизациј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ијa са под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a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дре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ти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aфиноте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a галвaнизацi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a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eрапијa - само aкт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 /пас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треба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ве док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ус није солида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 нисмо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урн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 немa остеoпорoзе и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з опрезност/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94232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Ендопротеза кука</a:t>
            </a: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(</a:t>
            </a: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oм oперацијe - фр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хан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масив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шењe инфекц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e интраоп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вн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авилно ц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a 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з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ом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к н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табу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што услoвљ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розију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скавице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није к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о шипkа е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ије добрo уг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a долаз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је кост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 ње и н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ос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л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 oп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и неправилно дoзирано oптерe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м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усло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лaбљењe  e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a болoва због нарушеnих д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е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однoс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уре;појавa oсиф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a kоји мoгу премост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пој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с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kар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 са фeмур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напрa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зу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ФИЗИКАЛНИ ТРЕТМ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ман поциње првог дана по операцији. Стајање и вертикализација запоциње су т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 дана од операц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ЕДЕ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 нема компликација пациј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т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петог дана од операције да седи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де је треба з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јно лимитирати флексију у куку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бне,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е омог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ају да се ти захтеви седења испуне а и да устајање буде олакшано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еба избегавати у седењу повл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е ноге уназад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пава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римарно сви пацијенти лезе на ледјима уз лако абдуковане ноге при спавању.Сигурност лаке абдукције се мо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 осигурати и уметањем једног јастука измедју ногу.Окретање у кревету и друге покрете који укљу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ју и кукове треба избегавати.Након 6 недеља мозе се слободније изводити окретање у кревету. .У првом месецу након операције треба максимално избегавати ле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ње на трбух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Забрањени покрети у првих 6 недељ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ексија у куку преко 90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укција кука преко средње линије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ена спољна и унутрашња ротација кук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на абдукција (због слабости и ресекције абдуктора кука или великог троцантера па је потребно време до њиховог реституисањ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36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ОВРЕДЕ МЕКИХ ТКИВ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876320"/>
            <a:ext cx="7956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у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, тетива, нерава и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орзије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ен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лигамен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цијалне или комплетне руптур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тети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ција тет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сације зглоб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Дозвољено према времен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Дозвољ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ање са штакам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пање под тушем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14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ивање у базен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љање путницким аутомобило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 зивотне активности за зивотну доб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јави болова узети аналгетике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биотике и NS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317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Упуство за свакодневни живо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отребно ј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шење еластицних завоја или еластицних цара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ре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у току ходања или седења-скидање но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на високој столици и адаптираном тоалет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у кревету са испрузеним ногам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кодневно спроводјење нацених везб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о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Закључ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ају треба 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а су лекар- оператор и физијатар обавезни да пацијенту издају код отпуста из болнице" протеза - пасош". Овај документ треба да садрзи све елементе везане за операцију, тип, ве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у и друге специф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.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докуемнт треба да слузи ради контролних прегледа, а посебно код контрола на аеродромима, јер се метални делови кроз сигурносне провере региструј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6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Подела повреда меких тки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68360" y="1904760"/>
            <a:ext cx="460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репарациј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аза запаљењ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је код свих повреда реактивног типа на настали прекид нормалне функције. Повреда доводи до оштецења и изумирања целија повредјеног ткива. Из изумрлих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ија излазе лизозомни ензими који имају даљи утицај на распадање детритуса. Формирани хемијски елементи делују на околно ткиво. Долази до вазодилатације, ексудације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 у околно ткиво из крвних судова и лимфног тока. Ова фаза траје неколико дана, код лаких повреда, а код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ајати и до две недељ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аза репарациј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а фаза за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ње 3 или 4 дана од повреде када долази до арборизације крвних судова тј. формирања капиларних пупољака, који се канализују и формирају нову капиларну мрезу. У поцетку су они пропустљивији него обицно, али због тога долази до лакшег одавања угрозеном ткиву кисеоника и хранљивих материја из новонасталих крвних судова. Истовремено поциње активност и фибробласта који полазу еластицна фиброзна влакна. На тај нацин поциње да се организује хематом који је у медјувремену фиброзирао јер је фибриноген под деловањем ослободјеног тромбина из тромбоцита условио прелаз у фибрин. Такодје овај фибрин је био и пребојен ослободјеним хемоглобином. Долази и до мењања боје оштеценог ткива од модро плаве до зуцкасте и на крају до обезбојавања. Формирана фиброзна влакна која су у 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ку еластицна, поцињу да се ретрахују задебљавају и прелазе у колегана влакна. Цео овај процес траје око две до три недељ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9423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France YU"/>
                <a:ea typeface="Times New Roman"/>
              </a:rPr>
              <a:t>Рехабилитациј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хабилитација повреда меких ткива има за основни циљ да спреци настанак грубог озиљног ткива које мозе довести до знатнијег оштецења функ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рвој фази основно је спрецити крварење и развој едема а што се постизе криотерапијом, елевацијом и компресивним завојем. Овакав приступ условљава смањење бола и спазма околних миш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24 - 48 сати после трауме треба побољшати периферну циркулацију, поспешити ресорпцију еxтравазата, смањење бола, успостављање физиолошке покретљивости и успостављање мишицне сна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е мере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00360" y="1904760"/>
            <a:ext cx="614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змениц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толоз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финска паковањ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/sp облик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асаза /дреназног типа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ол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16360" y="1904760"/>
            <a:ext cx="59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итемне дозе ув зр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 нов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с 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флексне дистроф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6360" y="1904760"/>
            <a:ext cx="556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збити бол /као гор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ганглион стеллату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цереблана галваниза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 уз мере опре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 + магнето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терапија</a:t>
            </a: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katarinaparezanovicilic@gmail.com</cp:lastModifiedBy>
  <dcterms:modified xsi:type="dcterms:W3CDTF">2020-09-26T17:01:45Z</dcterms:modified>
  <cp:revision>14</cp:revision>
  <dc:subject/>
  <dc:title>Rehabilitacija traumatoloških bolesnika</dc:title>
</cp:coreProperties>
</file>